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3AE-6A03-4FF6-AD21-D440FCC6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E95-7D1D-4892-B539-A66E2F51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99244-8F61-4F42-83B3-60AAC639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A5712-14E0-49A5-A68F-1FD7B16B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13CAF-7AA2-4C46-A69D-1321D9AA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4CCB4-4DDA-4001-B6C5-A82CCD08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A26BF-8BFD-42E4-8F46-4FDC6BB5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711DC-82F0-4747-88A3-5DD09078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608EC-F823-4FBD-B959-E4A799AF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26DDC-FCCF-4666-BFB3-E0BD1EB8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F794E-2AC7-4895-894A-CEB2D03E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8D142-C9B9-4717-8C64-CDBCCB30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48F-A53F-4927-B85A-4C856670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DBC12-B474-4B21-971C-A4745224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1F7EB-2E25-4420-A430-94B89115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97292-D4AE-4B94-A39F-BBFFD931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0A7F7-258C-4585-9591-B6224D97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2ECE5-1EAB-4DE6-854A-0FD860C0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CBA46-E662-4363-8AB6-2B97E9BE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CE6EC-8074-4C10-BC43-83FA2FBB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4DF92-DF7A-474B-B997-59461833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52814-34B4-4691-9795-4A1F7064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97F00-6F8F-4751-AD4A-F6FCAD56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346-63D4-4C60-99B6-B1596432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0E579-4A5B-4036-B0C7-013E264C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A6FAC-F3CB-47F5-B772-65CB7338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7A42E-F609-4B11-BE73-8BF31D11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A9F8D-6892-4660-B848-F81B75EE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AA695-D9A5-4D37-BA7E-33E06C51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2D79F-9C1C-4512-84C7-2F8839F3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2A74A-10FA-4A99-8EBB-5AFA8A85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8A51E-3005-4162-B814-5F0F1944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9EE34-0057-4F5F-8F04-F63162EC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7EA7F-6583-437D-B1F4-81AB9A79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DEE2-A296-4144-833A-F0C0FE99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05D5D-0C7E-4F84-85CF-8DB3EB4A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7E2CA-EEA5-4CDD-8149-4991BC83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6089B-D737-4CF0-8368-448CDDE3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6E461-58D0-4BA3-8D12-13ABF505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91FD9-3ED9-4BBC-A507-C33009E1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E44E1-5E6E-41C7-91A8-91013AE6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F6C06-4600-48C3-8C12-D13A461B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EF082-1B66-4C43-8C32-A652FE43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18774-82C9-402E-9ADE-E733439A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DF747-A1A2-4DEC-AD05-BB346B21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14F7-7155-4F3C-8EAB-62625B0C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E4560-11A7-4B74-8DAE-8FEDCFAF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41AEC-2AEE-4B42-882D-30AF15D1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BABBF-AE40-4B31-AEC0-6A14E864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B340B-9C0C-4639-8AC8-E2CD8955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8679D-4C09-4065-8C50-347942FF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81986-5703-43B3-8800-9DAE8607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F477C-E0BB-42CA-A790-03736C7A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67434-0340-4363-8C9B-A206FEC2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4035D-95C4-466B-BE44-C69A3051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493A5-FB48-4575-B24D-47DD7E17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A54E-BCEE-452A-AC2B-BE817D1C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4A369-B1DA-4FFE-8989-75C839BC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A098E-3FA3-4E6B-88BF-32BAAA83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33195-07FE-42BB-89A2-0EB2596C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73C2C-00D7-43DC-AD50-C27D014A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C8739-BEAF-4F18-A061-D8769A09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1EDBE-BF2E-42F2-82F5-246BA0F9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B1E7D-E40E-44AF-BB6F-B379CC32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8611BC-1FFF-4512-8B0C-04194CAE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8108CE-1486-4B67-B165-DBBC6AE0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8212C0-219A-40D7-A841-2CA85AB8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88BA-FEA1-4D04-A57A-657032E0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9F68BC-A31C-4723-B58A-9E44A0C0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E19AD-75D8-4EC9-B93D-573270F3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EA560-9392-4CB7-BD9B-C2478834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A97B6-C923-45D8-BC85-F3E66AE7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19370-EC2D-4DF1-AC5B-1E2DD292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CDD29B-D246-40F4-AECA-C4C5195F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4199BB-2E39-4BE1-8C3C-218C7884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3BDF5-5C37-481B-92B8-58B63E0A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D7B9E-5D87-4F73-9F0A-B27B307F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06BD3-5028-4F55-89F5-4C1F23CB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9767-3B8B-4D5C-A871-A2005D2E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6B79CD-221D-48C5-B843-909E9FE3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0465A7-C620-4F17-A833-AF2565AF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DDA83E-52A9-4EC5-9BE3-9D8481BC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5ADDE1-FA04-44A1-A0D3-48D538F5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86A46-D2A0-4B4E-B8AF-F6FD73AC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91C834-D2B6-43AC-A408-4FA646D1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4F6C81-927A-42D9-BE55-30E0682E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724889-E677-4020-90C1-CD64440F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698F52-0D5A-4026-80A1-D5859103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03E7E-0C41-4A54-A919-BF2EE07C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A7D8-CF2F-4CFE-862F-71D063D7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E90897-5035-4560-AC03-5B8CA662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ACAA-C76C-4C9B-A570-CE4F8244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95C-FD6E-422F-A2F8-CD1ACB05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86C3-0A48-4C33-A67D-69B77C3F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DC13-5334-4375-B3B4-3B89987A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1543-4727-4C5C-A3AD-FB3B0E46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D3D5-53F7-4BA7-902D-98493AF4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90E6-6218-4D9F-BEAB-EE192627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D7FB-CC67-427A-A576-F44B3134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5F0EB-9A34-47CE-A2CC-6F9215EA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72550-D845-48D0-9C8B-6BC022DB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394C3-5513-4C73-8B2D-DEC4DD82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1557-D819-4FC9-BC99-360B75C3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DF4-6440-417F-B7A0-E340669C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3D95F-08B2-4801-976A-2FC8B8E6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95AB-EF11-44B1-93D8-A0C8752A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D16A4-17BC-43BE-A858-BEF5ABE7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4B388-FD08-4815-BBE2-81ADBE0D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6D96E-26B6-439D-8E7B-D7CD2E2C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433E9-498A-48D6-99EF-D49F78B2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DE63A-2625-4F4D-A7F3-D1C14E9E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41E74-0E59-422E-B49F-5DC0FE9B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C2E04-7A61-43E6-AEDE-521195D1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81660-7387-42DB-A6D8-6206F2DC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949-85D7-42A6-B632-6498E360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00710-AFCE-459D-AA1C-3B15FB25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26DA-FFEB-42FA-9101-2580D6AE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1CE49-4DDD-4DD5-9360-50DADF4D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76F80-8113-4780-8CCB-51BF4231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D3C91-9566-4FA5-A039-9F5F5A97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C159C-637C-4D37-940F-E93AEC5C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72CF7-D63C-47C6-ACA8-021A67DB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68EE5-8327-4D4C-97C2-33ABA8D6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BC617-1E21-48D9-8B68-DB379394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08593-7FDA-4260-A74B-4898FD84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94DE-77FA-48B9-940B-2D632838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91865-4209-4FD5-B951-C07D979C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612C5-1940-4B4B-9F4C-DCE34774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CF5B2-0C2E-4C05-8650-55216316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6224C-A27D-417F-9976-4BE605D5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B6385-E3A1-4F1F-A6F5-6798046D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201A0-B296-4278-9D5D-F7701394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2B247-BCB8-4B50-AC62-57F79DF6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278F8-E83A-4012-B6FB-AC0E4ED6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D7848-DAFD-4CD8-BF3C-6F7E6269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F561A-7A82-4985-9A11-C4C1F922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717-6915-470A-92C6-3F84B5E6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900EC-7EB5-4634-A7CA-1A83909A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9354D-2D2F-4654-A389-84EB7666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5449E-784B-42F9-BC86-223F4DA6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5080F-DEF8-4AEE-8A86-3C13135B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79B21-7A8E-4A9C-9735-5A5B5109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2BB95-17ED-4592-A922-433B786C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A9F84-EF29-41F2-859C-C6F3DFAE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C406D-91A3-4CD2-8B2F-821D9632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ACFC3-8F1E-40BF-BE43-AB866836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D34EB-B796-4AD0-AC58-92520BB1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3CA-45D1-4666-9C5C-80CC1087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D8437-24C4-4530-9B3E-19924092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C56DC-593B-4581-A7BF-1100B1D9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8E08A-5B4A-4720-B17A-678424A9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2DAA2-AC1D-415F-B4E5-8EECFCC0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6661C-0C1E-492A-A437-94A19807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9A11D-FC68-4A85-B731-9B01563E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C1616-5EED-4A34-8D46-F5C1B6AC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225E9-D6FC-4CC1-8C86-B379BBA6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217FE-174D-4B20-981C-A6C4CC03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91EF8-5D65-49DB-80E7-8F86FD4F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409-A2E6-401B-8B44-86EE8CE3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9C89B-F03A-4549-8022-7DB605ED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E77EE-70FD-4DAB-9D01-831235EC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3BD25-8C04-49E7-B0A9-AD0A4E31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6E922-B78B-44E1-993F-C6500E4B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3798C-580C-4331-8D60-C48BFC44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74B92-E5D0-41CF-8CCC-4E025BD4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23F3D-AF9B-4028-B8C8-DED38A62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9260F-ABD0-48E1-9EAC-1F20B0BD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4C124-C354-463C-8E68-9527095A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1888E-9E99-4612-85A0-D2A7DCA8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EDB-EF8A-4FD2-8E42-87D342CE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F5C57-C69B-4A81-BF32-B0752411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C97A2-8349-47E2-97CE-20B15269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96B5B-A0DD-49B5-9B56-C31340B6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4D6EC-877D-4F3B-A77E-C458D8E9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66543-F90A-458C-827D-00AED070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723D0-B176-4631-A4D2-5B1E97C6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64F75-E13F-4F1E-9327-F0B286D7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4785E-6548-46AB-84D0-032E421D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AE763-E637-46BF-91C4-FA1F154E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FD928-8394-4E1F-8EB5-0D35240C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fld id="{04DAF1C3-F8A7-40E8-AFD4-F1F89C6AE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DF6E-4382-4841-BC8F-94E6868AF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474C-E473-4688-8DF4-581A6CB1A4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F17D-57DF-4E69-A019-574B29AFBA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053D-215D-4878-B333-1A6E3F7549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56CC-FA8E-493C-BE6D-BEFF956E38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F803-B3AE-48B9-8DD7-1734DDD623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9382-CCBF-4C13-BA89-B95FAB99FC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3816-9313-42C7-84C7-9694C0109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71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72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17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17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17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17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179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180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181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2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3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4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5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6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7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8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6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7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8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9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00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01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02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03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04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05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06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07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08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09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10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11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12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13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14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15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216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fld id="{9957047D-4101-4F25-BD81-6B3BDA489DD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5A35-FA07-4E0F-A6D7-CA33E6D8C0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7E25-055C-4FA0-B083-97E0867EE8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3A66-9B4B-43E0-8F2B-DF39DC4A5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2986-51E5-4B66-82E4-D263DD0DA3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BF99-03FB-4475-B55E-6287955A44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AD9B-0F37-40DC-A67F-4BBF9DA406C3}" type="slidenum"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Clase 8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3 de marzo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res?¿Como es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E31D887E-7862-4DD5-879F-472D06A41AF7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Identific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ú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r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 hermana de Pedr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Nosot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mo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merican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Ayal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profesor de españ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761" name="Picture 5" descr="PE01460_"/>
          <p:cNvPicPr/>
          <p:nvPr/>
        </p:nvPicPr>
        <p:blipFill>
          <a:blip r:embed="rId1"/>
          <a:stretch/>
        </p:blipFill>
        <p:spPr>
          <a:xfrm>
            <a:off x="3652920" y="4572000"/>
            <a:ext cx="18381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3C43BF67-15A2-49F3-8204-E0C69DC4857F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s Característica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Y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alto y delga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armen y Pabl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óven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st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burrid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765" name="Picture 5" descr="bd06630_"/>
          <p:cNvPicPr/>
          <p:nvPr/>
        </p:nvPicPr>
        <p:blipFill>
          <a:blip r:embed="rId1"/>
          <a:stretch/>
        </p:blipFill>
        <p:spPr>
          <a:xfrm>
            <a:off x="3276720" y="4602240"/>
            <a:ext cx="259056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864DAF83-A9B7-443E-8238-0BDE95062C22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Hora y la fecha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Qué hor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s tres de la tard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oy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l 17 de febrer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769" name="Picture 5" descr="bs00965_"/>
          <p:cNvPicPr/>
          <p:nvPr/>
        </p:nvPicPr>
        <p:blipFill>
          <a:blip r:embed="rId1"/>
          <a:stretch/>
        </p:blipFill>
        <p:spPr>
          <a:xfrm>
            <a:off x="3252960" y="4513320"/>
            <a:ext cx="2636640" cy="23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E9544845-0841-4C2B-B614-C34B2B297681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Un Evento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 las och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fiest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os conciert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l parqu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773" name="Picture 5" descr="en00508_"/>
          <p:cNvPicPr/>
          <p:nvPr/>
        </p:nvPicPr>
        <p:blipFill>
          <a:blip r:embed="rId1"/>
          <a:stretch/>
        </p:blipFill>
        <p:spPr>
          <a:xfrm>
            <a:off x="3276720" y="4343400"/>
            <a:ext cx="251460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E6D019DF-EFF3-4C18-9D2E-980E4B9AA7D0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 preposición “de”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Possessi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arí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77" name="Rectangle 5"/>
          <p:cNvSpPr/>
          <p:nvPr/>
        </p:nvSpPr>
        <p:spPr>
          <a:xfrm>
            <a:off x="685800" y="33526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Material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upit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etal y plástic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778" name="Picture 6" descr="bs01001_"/>
          <p:cNvPicPr/>
          <p:nvPr/>
        </p:nvPicPr>
        <p:blipFill>
          <a:blip r:embed="rId1"/>
          <a:stretch/>
        </p:blipFill>
        <p:spPr>
          <a:xfrm>
            <a:off x="3503520" y="4952880"/>
            <a:ext cx="2135160" cy="173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5BA21686-79FA-462B-94D9-CB4A474AF640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6287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localiz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ondic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opin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CA86B227-9258-4A37-859E-20BE07059A8C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Localiz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drid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lib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Dónd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i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vosotros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785" name="Picture 5" descr="an00106_"/>
          <p:cNvPicPr/>
          <p:nvPr/>
        </p:nvPicPr>
        <p:blipFill>
          <a:blip r:embed="rId1"/>
          <a:stretch/>
        </p:blipFill>
        <p:spPr>
          <a:xfrm>
            <a:off x="3333600" y="4730760"/>
            <a:ext cx="2475000" cy="212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3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04F8F29F-C4E8-4053-8351-DB0463886C63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Condic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teléfon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ibre ahor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rcos y Ele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nervios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teo siemp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content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789" name="Picture 5" descr="pe03704_"/>
          <p:cNvPicPr/>
          <p:nvPr/>
        </p:nvPicPr>
        <p:blipFill>
          <a:blip r:embed="rId1"/>
          <a:stretch/>
        </p:blipFill>
        <p:spPr>
          <a:xfrm>
            <a:off x="3505320" y="4495680"/>
            <a:ext cx="216360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5" dur="50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50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294B226B-8ABE-43BB-A1CE-CC02B4CA09DA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Opin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u herma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bonita hoy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escad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buen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Sanchez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uegando bien al fútb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793" name="Picture 5" descr="j0079256"/>
          <p:cNvPicPr/>
          <p:nvPr/>
        </p:nvPicPr>
        <p:blipFill>
          <a:blip r:embed="rId1"/>
          <a:stretch/>
        </p:blipFill>
        <p:spPr>
          <a:xfrm>
            <a:off x="914400" y="4495680"/>
            <a:ext cx="20160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7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2" dur="5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7" dur="5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4BED-BFD2-4604-A406-CF6F6E7C5A6C}" type="slidenum"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457200" y="243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Tarea # 55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paso de Proposito 5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 u="sng">
                <a:solidFill>
                  <a:srgbClr val="000000"/>
                </a:solidFill>
                <a:uFillTx/>
                <a:latin typeface="Calibri"/>
              </a:rPr>
              <a:t>Ej. 3</a:t>
            </a: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 p. 20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El niño tiene que ____________ porque tiene fieb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Tiene ______. Tose much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Le duele la cabeza. Tiene ______ de cabez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El enfermero le toma la __________ arteri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EL medico examina a sus pacientes en ______________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El medico le da un examen completo. Le da un _______________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Tiene que ir a la farmacia porque el medico le da una _______________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3"/>
          <p:cNvSpPr/>
          <p:nvPr/>
        </p:nvSpPr>
        <p:spPr>
          <a:xfrm>
            <a:off x="35812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guardar cama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15" name="TextBox 4"/>
          <p:cNvSpPr/>
          <p:nvPr/>
        </p:nvSpPr>
        <p:spPr>
          <a:xfrm>
            <a:off x="1905120" y="2371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t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16" name="TextBox 5"/>
          <p:cNvSpPr/>
          <p:nvPr/>
        </p:nvSpPr>
        <p:spPr>
          <a:xfrm>
            <a:off x="4800600" y="2905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dolor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17" name="TextBox 6"/>
          <p:cNvSpPr/>
          <p:nvPr/>
        </p:nvSpPr>
        <p:spPr>
          <a:xfrm>
            <a:off x="4724280" y="33624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esio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18" name="TextBox 7"/>
          <p:cNvSpPr/>
          <p:nvPr/>
        </p:nvSpPr>
        <p:spPr>
          <a:xfrm>
            <a:off x="762120" y="41241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el consultorio medic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19" name="TextBox 8"/>
          <p:cNvSpPr/>
          <p:nvPr/>
        </p:nvSpPr>
        <p:spPr>
          <a:xfrm>
            <a:off x="1066680" y="4962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examen fisic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20" name="TextBox 9"/>
          <p:cNvSpPr/>
          <p:nvPr/>
        </p:nvSpPr>
        <p:spPr>
          <a:xfrm>
            <a:off x="1600200" y="5800680"/>
            <a:ext cx="22096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2C3A-573A-4D47-A135-9CB35C81919F}" type="slidenum"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rar el DVD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Gramática en vivo: Ser y 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Actividades 1 y 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n el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tus compañeros de mesa, complet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Hablar 1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66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criban sus descripciones en sus cuader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jercicio 1-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. 67-68 (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457200" y="358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Tarea # 40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F37E-73CB-4961-AD9E-DC71963B58EB}" type="slidenum"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Tarea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ORKBOOK p.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selmo (1)_______ hondureño. Él (2)______ de San Pedro Sula. San Pedro Sula (3)______ una ciudad importante de Honduras.  Pero ahora Anselmo no (4)_______ en Honduras.  Él (5)______ en Estados Unidos.  La vida de Anselmo no (6)____ muy fácil.  Él trabaja mucho pero (7)______ bastante contento porque (8)______ gusta su trabajo y (9)______ paga bastante bien.  Pero no hay duda, a veces Anselmo (10)______ triste porque quiere ver a su familia.  Su familia no (11)_______ en Estados Unidos.  Su esposa y sus hijos (12)_______ en Honduras.  Anselmo (13)_____ habla con frecuencia por teléfono y él (14)_____ manda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sends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in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2966400" y="1447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7081200" y="1447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6782760" y="18288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08" name="Text Box 7"/>
          <p:cNvSpPr/>
          <p:nvPr/>
        </p:nvSpPr>
        <p:spPr>
          <a:xfrm>
            <a:off x="3195360" y="2666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09" name="Text Box 8"/>
          <p:cNvSpPr/>
          <p:nvPr/>
        </p:nvSpPr>
        <p:spPr>
          <a:xfrm>
            <a:off x="7843680" y="2666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10" name="Text Box 9"/>
          <p:cNvSpPr/>
          <p:nvPr/>
        </p:nvSpPr>
        <p:spPr>
          <a:xfrm>
            <a:off x="8148240" y="30481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11" name="Text Box 10"/>
          <p:cNvSpPr/>
          <p:nvPr/>
        </p:nvSpPr>
        <p:spPr>
          <a:xfrm>
            <a:off x="6554520" y="33526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12" name="Text Box 11"/>
          <p:cNvSpPr/>
          <p:nvPr/>
        </p:nvSpPr>
        <p:spPr>
          <a:xfrm>
            <a:off x="4038840" y="37339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le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13" name="Text Box 12"/>
          <p:cNvSpPr/>
          <p:nvPr/>
        </p:nvSpPr>
        <p:spPr>
          <a:xfrm>
            <a:off x="1295640" y="41911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le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14" name="Text Box 13"/>
          <p:cNvSpPr/>
          <p:nvPr/>
        </p:nvSpPr>
        <p:spPr>
          <a:xfrm>
            <a:off x="3963600" y="4572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15" name="Text Box 14"/>
          <p:cNvSpPr/>
          <p:nvPr/>
        </p:nvSpPr>
        <p:spPr>
          <a:xfrm>
            <a:off x="5819400" y="4952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16" name="Text Box 15"/>
          <p:cNvSpPr/>
          <p:nvPr/>
        </p:nvSpPr>
        <p:spPr>
          <a:xfrm>
            <a:off x="6505200" y="53341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n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17" name="Text Box 16"/>
          <p:cNvSpPr/>
          <p:nvPr/>
        </p:nvSpPr>
        <p:spPr>
          <a:xfrm>
            <a:off x="4786920" y="57150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l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18" name="Text Box 17"/>
          <p:cNvSpPr/>
          <p:nvPr/>
        </p:nvSpPr>
        <p:spPr>
          <a:xfrm>
            <a:off x="3963600" y="6095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les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6298-5A5C-4BF8-8F1F-081235653ADF}" type="slidenum"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Tarea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selmo tiene muchos amigos nuevos en Estados Unidos. Como él, muchos de sus amigos (15)______ de  Latinoamérica.  Todos (16)______ de países diferentes. ¿En que lengua (17)_____ habla Anselmo?  Él habla en español. Ahora Anselmo aprende el ingles.  Su curso de ingles (18)______ muy interesante pero según Anselmo el ingles (19)_____ muy difícil.  Pero él (20)______ contento porque quiere aprender ingles y según su profesor él (21)______ un alumno muy bu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"/>
          <p:cNvSpPr/>
          <p:nvPr/>
        </p:nvSpPr>
        <p:spPr>
          <a:xfrm>
            <a:off x="2896200" y="24382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son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23" name="Text Box 5"/>
          <p:cNvSpPr/>
          <p:nvPr/>
        </p:nvSpPr>
        <p:spPr>
          <a:xfrm>
            <a:off x="1524600" y="28195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son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24" name="Text Box 6"/>
          <p:cNvSpPr/>
          <p:nvPr/>
        </p:nvSpPr>
        <p:spPr>
          <a:xfrm>
            <a:off x="1524600" y="32767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l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25" name="Text Box 7"/>
          <p:cNvSpPr/>
          <p:nvPr/>
        </p:nvSpPr>
        <p:spPr>
          <a:xfrm>
            <a:off x="2772360" y="4114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26" name="Text Box 8"/>
          <p:cNvSpPr/>
          <p:nvPr/>
        </p:nvSpPr>
        <p:spPr>
          <a:xfrm>
            <a:off x="4573080" y="4572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27" name="Text Box 9"/>
          <p:cNvSpPr/>
          <p:nvPr/>
        </p:nvSpPr>
        <p:spPr>
          <a:xfrm>
            <a:off x="162864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tá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28" name="Text Box 10"/>
          <p:cNvSpPr/>
          <p:nvPr/>
        </p:nvSpPr>
        <p:spPr>
          <a:xfrm>
            <a:off x="6401880" y="54100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es  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paso de la Tarea 5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2824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lejandro esta enfermo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Tiene una sonrisa en la car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a cans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Tiene que guardar c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a lleno de energ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e duele la cabez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a en la consulta del med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a de buen hum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Tiene dolor de estoma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3"/>
          <p:cNvSpPr/>
          <p:nvPr/>
        </p:nvSpPr>
        <p:spPr>
          <a:xfrm>
            <a:off x="5638680" y="18082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incorrec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24" name="TextBox 4"/>
          <p:cNvSpPr/>
          <p:nvPr/>
        </p:nvSpPr>
        <p:spPr>
          <a:xfrm>
            <a:off x="3124080" y="2448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orrec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25" name="TextBox 5"/>
          <p:cNvSpPr/>
          <p:nvPr/>
        </p:nvSpPr>
        <p:spPr>
          <a:xfrm>
            <a:off x="4952880" y="2981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orrec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26" name="TextBox 6"/>
          <p:cNvSpPr/>
          <p:nvPr/>
        </p:nvSpPr>
        <p:spPr>
          <a:xfrm>
            <a:off x="4419720" y="3514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incorrec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27" name="TextBox 7"/>
          <p:cNvSpPr/>
          <p:nvPr/>
        </p:nvSpPr>
        <p:spPr>
          <a:xfrm>
            <a:off x="3962520" y="4048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orrec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28" name="TextBox 8"/>
          <p:cNvSpPr/>
          <p:nvPr/>
        </p:nvSpPr>
        <p:spPr>
          <a:xfrm>
            <a:off x="5943600" y="45813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orrec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29" name="TextBox 9"/>
          <p:cNvSpPr/>
          <p:nvPr/>
        </p:nvSpPr>
        <p:spPr>
          <a:xfrm>
            <a:off x="4267080" y="5114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incorrec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30" name="TextBox 10"/>
          <p:cNvSpPr/>
          <p:nvPr/>
        </p:nvSpPr>
        <p:spPr>
          <a:xfrm>
            <a:off x="5105520" y="5638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orrec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30492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ando es muy terco. Me __________ su comporta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ipaz esta en la consulta del medico porque necesita __________ fisic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 hermano es mal educado. Siempre habla con __________ llena de com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tudio mucho porque quiero tener _________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a tiene __________. Esta resfri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paso de la Tarea 5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Box 4"/>
          <p:cNvSpPr/>
          <p:nvPr/>
        </p:nvSpPr>
        <p:spPr>
          <a:xfrm>
            <a:off x="5181480" y="22096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olesta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34" name="TextBox 5"/>
          <p:cNvSpPr/>
          <p:nvPr/>
        </p:nvSpPr>
        <p:spPr>
          <a:xfrm>
            <a:off x="2438280" y="35146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exame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35" name="TextBox 6"/>
          <p:cNvSpPr/>
          <p:nvPr/>
        </p:nvSpPr>
        <p:spPr>
          <a:xfrm>
            <a:off x="1066680" y="45054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la boca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36" name="TextBox 7"/>
          <p:cNvSpPr/>
          <p:nvPr/>
        </p:nvSpPr>
        <p:spPr>
          <a:xfrm>
            <a:off x="6629400" y="4952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exi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37" name="TextBox 8"/>
          <p:cNvSpPr/>
          <p:nvPr/>
        </p:nvSpPr>
        <p:spPr>
          <a:xfrm>
            <a:off x="2514600" y="549576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resfriado/ tos/ fiebre/ catarr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F178A6AD-B62A-49B0-8CD8-E7F59BD788B0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Ser y Estar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 en español…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647960" y="29714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Both verbs mean </a:t>
            </a:r>
            <a:r>
              <a:rPr b="0" i="1" lang="en-US" sz="2800" spc="-1" strike="noStrike">
                <a:solidFill>
                  <a:srgbClr val="f8f8f8"/>
                </a:solidFill>
                <a:latin typeface="Comic Sans MS"/>
              </a:rPr>
              <a:t>“to be”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Used in </a:t>
            </a:r>
            <a:r>
              <a:rPr b="0" i="1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very different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cas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Irregular conjugation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741" name="Picture 5" descr="bs01923_"/>
          <p:cNvPicPr/>
          <p:nvPr/>
        </p:nvPicPr>
        <p:blipFill>
          <a:blip r:embed="rId1"/>
          <a:stretch/>
        </p:blipFill>
        <p:spPr>
          <a:xfrm>
            <a:off x="1184400" y="2971800"/>
            <a:ext cx="281124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1CB5622C-3A35-4E8F-86C5-3AD44A0A6DE0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as forma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r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4796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a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a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46" name="Text Box 5"/>
          <p:cNvSpPr/>
          <p:nvPr/>
        </p:nvSpPr>
        <p:spPr>
          <a:xfrm>
            <a:off x="2121120" y="23623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5767920" y="2362320"/>
            <a:ext cx="141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D4474797-D3BF-46C5-A9A7-3D2AE19F556B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os uso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de estos verbo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750" name="Picture 5" descr="bd05558_"/>
          <p:cNvPicPr/>
          <p:nvPr/>
        </p:nvPicPr>
        <p:blipFill>
          <a:blip r:embed="rId1"/>
          <a:stretch/>
        </p:blipFill>
        <p:spPr>
          <a:xfrm>
            <a:off x="2847960" y="2286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513D3B37-60DE-428E-83A7-8BAB3E94D829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5639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el orige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identific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aracterística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hora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un evento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possession, material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DF40575A-7635-4C33-9196-ECEC5BAFB8E5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El Orige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Juan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Guatemal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prim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Buenos Air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757" name="Picture 6" descr="BD05680_"/>
          <p:cNvPicPr/>
          <p:nvPr/>
        </p:nvPicPr>
        <p:blipFill>
          <a:blip r:embed="rId1"/>
          <a:stretch/>
        </p:blipFill>
        <p:spPr>
          <a:xfrm>
            <a:off x="3273480" y="4802040"/>
            <a:ext cx="2595600" cy="20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olseng</dc:creator>
  <dc:description/>
  <dc:language>en-US</dc:language>
  <cp:lastModifiedBy>Helen Zumaeta</cp:lastModifiedBy>
  <cp:lastPrinted>2015-03-13T12:54:49Z</cp:lastPrinted>
  <dcterms:modified xsi:type="dcterms:W3CDTF">2015-03-13T13:45:31Z</dcterms:modified>
  <cp:revision>93</cp:revision>
  <dc:subject/>
  <dc:title>Ser &amp; Estar</dc:title>
</cp:coreProperties>
</file>